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type.wav" ContentType="audio/x-wav"/>
  <Override PartName="/ppt/media/laser.wav" ContentType="audio/x-wav"/>
  <Override PartName="/ppt/media/whoosh.wav" ContentType="audio/x-wav"/>
  <Override PartName="/ppt/media/image1.wmf" ContentType="image/x-wmf"/>
  <Override PartName="/ppt/media/image2.wmf" ContentType="image/x-wmf"/>
  <Override PartName="/ppt/media/chimes.wav" ContentType="audio/x-wav"/>
  <Override PartName="/ppt/media/image7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877-C0E2-4B38-B5B4-C947CB3A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7B7-1647-43A5-8091-C380DE3A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0F7-3A4C-4F94-AD70-D7869C2B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188-620C-4DBE-86F4-004F27CE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9574-5360-4BDE-854A-EE3F4545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7E04-E657-4F73-915E-8499E3EA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847C-A498-4213-B9E2-3318B07C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067F-7F27-4BFC-8F28-72F86F07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1448-3B5F-46D8-B3B8-230FF74D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59F3-2898-4A2A-9079-7063A6C1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9455-0841-445D-9CB1-F2EC9113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B92-2733-4CD4-A2A5-BA34BEDA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3634-AF5E-41D8-B395-369555EB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43BC-F299-43DF-A6E0-13DDE964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25C1-42EE-497D-942E-1047AF06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57FF-C7ED-4282-A6DE-F58A9DA9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8703-1655-4408-8DEA-D6DF3768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C30-0941-4D55-991D-468B2358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AFC7-60A4-4030-9887-A34DDA0F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123D-5EA8-4AA6-968E-7271A434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F4C-0932-4E8A-A4A8-26764E2E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408-143A-4503-BEFC-6B54845A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0F39-FC16-44D7-83C9-90B77C7E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CEE-11DB-4546-AC23-78F6F8E1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            </a:t>
            </a:r>
            <a:fld id="{81425ED6-6FB0-49AC-B49E-CB6B311AF0EC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            </a:t>
            </a:r>
            <a:fld id="{2283074D-C9AD-47C9-9EAD-73A86D124473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896040" algn="ctr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343880" algn="ctr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1792080" algn="ctr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1792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1792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Ser y Estar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2204280" y="4216320"/>
            <a:ext cx="475884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1" i="1" lang="en-US" sz="3200" spc="-1" strike="noStrike">
                <a:solidFill>
                  <a:srgbClr val="f8f8f8"/>
                </a:solidFill>
                <a:latin typeface="Comic Sans MS"/>
              </a:rPr>
              <a:t>to be” or not “to be”</a:t>
            </a: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…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0360-2F8A-4F7A-8DFA-BA2D67AE7F3C}" type="slidenum">
              <a:t>1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cc00"/>
                </a:solidFill>
                <a:uFillTx/>
                <a:latin typeface="Comic Sans MS"/>
              </a:rPr>
              <a:t>Las Característica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Y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muy alto y delgad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armen y Pabl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jóven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sta clas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burrid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76720" y="4602240"/>
            <a:ext cx="2590560" cy="206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543B-9E1B-44B4-A8DC-1C7A46A2D4B9}" type="slidenum">
              <a:t>10</a:t>
            </a:fld>
          </a:p>
        </p:txBody>
      </p:sp>
    </p:spTree>
  </p:cSld>
  <p:transition spd="med">
    <p:pull dir="d"/>
    <p:sndAc>
      <p:stSnd>
        <p:snd r:embed="rId2" name="whoosh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Hora y la fecha</a:t>
            </a:r>
            <a:r>
              <a:rPr b="0" i="1" lang="en-US" sz="72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¿Qué hor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as tres de la tard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Hoy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l 17 de febrer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252960" y="4513320"/>
            <a:ext cx="2636640" cy="234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610-9941-482A-A801-CE84F3E5F93D}" type="slidenum">
              <a:t>11</a:t>
            </a:fld>
          </a:p>
        </p:txBody>
      </p:sp>
    </p:spTree>
  </p:cSld>
  <p:transition spd="med">
    <p:pull dir="d"/>
    <p:sndAc>
      <p:stSnd>
        <p:snd r:embed="rId2" name="whoosh.wav"/>
      </p:stSnd>
    </p:sndAc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Un Evento</a:t>
            </a:r>
            <a:r>
              <a:rPr b="0" i="1" lang="en-US" sz="72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 clas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 las och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 fiest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os conciert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el parqu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76720" y="4343400"/>
            <a:ext cx="2514600" cy="24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7D3-3A63-4326-9188-6D573F0C7EAF}" type="slidenum">
              <a:t>12</a:t>
            </a:fld>
          </a:p>
        </p:txBody>
      </p:sp>
    </p:spTree>
  </p:cSld>
  <p:transition spd="med">
    <p:pull dir="d"/>
    <p:sndAc>
      <p:stSnd>
        <p:snd r:embed="rId2" name="whoosh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cc00"/>
                </a:solidFill>
                <a:uFillTx/>
                <a:latin typeface="Comic Sans MS"/>
              </a:rPr>
              <a:t>La preposición “de”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Possessi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Marí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33526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Material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pupitr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metal y plástic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503520" y="4952880"/>
            <a:ext cx="2135160" cy="173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7E2C-6448-4A80-A5F9-22E27C9D727F}" type="slidenum">
              <a:t>13</a:t>
            </a:fld>
          </a:p>
        </p:txBody>
      </p:sp>
    </p:spTree>
  </p:cSld>
  <p:transition spd="med">
    <p:pull dir="d"/>
    <p:sndAc>
      <p:stSnd>
        <p:snd r:embed="rId2" name="whoosh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ocation of a person or thing             (</a:t>
            </a:r>
            <a:r>
              <a:rPr b="0" i="1" lang="en-US" sz="3200" spc="-1" strike="noStrike">
                <a:solidFill>
                  <a:srgbClr val="ffcc00"/>
                </a:solidFill>
                <a:latin typeface="Comic Sans MS"/>
              </a:rPr>
              <a:t>la localizació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onditions (</a:t>
            </a:r>
            <a:r>
              <a:rPr b="0" i="1" lang="en-US" sz="3200" spc="-1" strike="noStrike">
                <a:solidFill>
                  <a:srgbClr val="ffcc00"/>
                </a:solidFill>
                <a:latin typeface="Comic Sans MS"/>
              </a:rPr>
              <a:t>las condicion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mpressions or opinions (</a:t>
            </a:r>
            <a:r>
              <a:rPr b="0" i="1" lang="en-US" sz="3200" spc="-1" strike="noStrike">
                <a:solidFill>
                  <a:srgbClr val="ffcc00"/>
                </a:solidFill>
                <a:latin typeface="Comic Sans MS"/>
              </a:rPr>
              <a:t>las opinion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19B-2A75-44C1-BBE2-82272E13D295}" type="slidenum">
              <a:t>14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1360" y="822240"/>
            <a:ext cx="667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Comic Sans MS"/>
              </a:rPr>
              <a:t>Algunos Adjetivos con ESTAR: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1388880" y="258768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cansad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5252760" y="220680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abiert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2655000" y="4645080"/>
            <a:ext cx="14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cerrad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3459240" y="304488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nervios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6289560" y="464508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enferm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533160" y="418788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libre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6293160" y="5940360"/>
            <a:ext cx="167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content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5901120" y="342576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limpi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1977480" y="6016680"/>
            <a:ext cx="16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ocupad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4461480" y="525456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suci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3026520" y="1596960"/>
            <a:ext cx="31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(unas condiciones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8792-E059-481A-A4EC-C8D439D9EC37}" type="slidenum">
              <a:t>15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7500"/>
                            </p:stCondLst>
                            <p:childTnLst>
                              <p:par>
                                <p:cTn id="39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9000"/>
                            </p:stCondLst>
                            <p:childTnLst>
                              <p:par>
                                <p:cTn id="40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Localizació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drid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Españ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is libr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¿Dónd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i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vosotros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333600" y="4730760"/>
            <a:ext cx="2475000" cy="21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D7A-5D36-4235-8B03-7CA7365394BA}" type="slidenum">
              <a:t>16</a:t>
            </a:fld>
          </a:p>
        </p:txBody>
      </p:sp>
    </p:spTree>
  </p:cSld>
  <p:transition spd="med">
    <p:pull dir="d"/>
    <p:sndAc>
      <p:stSnd>
        <p:snd r:embed="rId2" name="whoosh.wav"/>
      </p:stSnd>
    </p:sndAc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s Condicione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teléfon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ibre ahor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rcos y Elen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nervioso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teo siempr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content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505320" y="4495680"/>
            <a:ext cx="216360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5689-2EE4-42D6-B8D3-E500D29BC5AC}" type="slidenum">
              <a:t>17</a:t>
            </a:fld>
          </a:p>
        </p:txBody>
      </p:sp>
    </p:spTree>
  </p:cSld>
  <p:transition spd="med">
    <p:pull dir="d"/>
    <p:sndAc>
      <p:stSnd>
        <p:snd r:embed="rId2" name="whoosh.wav"/>
      </p:stSnd>
    </p:sndAc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0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5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s Opinione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u herman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bonita hoy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pescad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muy buen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Sr. Sanchez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joven cuando juega al fútbol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914400" y="4495680"/>
            <a:ext cx="201600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EEB4-BA65-4EAE-BA04-B5E21C8C23FB}" type="slidenum">
              <a:t>18</a:t>
            </a:fld>
          </a:p>
        </p:txBody>
      </p:sp>
    </p:spTree>
  </p:cSld>
  <p:transition spd="med">
    <p:pull dir="d"/>
    <p:sndAc>
      <p:stSnd>
        <p:snd r:embed="rId2" name="whoosh.wav"/>
      </p:stSnd>
    </p:sndAc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9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4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¿Cuáles son los usos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de estos verbos?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847960" y="2286000"/>
            <a:ext cx="34466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820-FC05-401C-970B-9B3135E1CECB}" type="slidenum">
              <a:t>19</a:t>
            </a:fld>
          </a:p>
        </p:txBody>
      </p:sp>
    </p:spTree>
  </p:cSld>
  <p:transition spd="med">
    <p:pull dir="d"/>
    <p:sndAc>
      <p:stSnd>
        <p:snd r:embed="rId2" name="whoosh.wav"/>
      </p:stSnd>
    </p:sndAc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Ser y Estar</a:t>
            </a: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 en español…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7960" y="29714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Both verbs mean </a:t>
            </a:r>
            <a:r>
              <a:rPr b="0" i="1" lang="en-US" sz="2800" spc="-1" strike="noStrike">
                <a:solidFill>
                  <a:srgbClr val="f8f8f8"/>
                </a:solidFill>
                <a:latin typeface="Comic Sans MS"/>
              </a:rPr>
              <a:t>“to be”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Used in </a:t>
            </a:r>
            <a:r>
              <a:rPr b="0" i="1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very different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cas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Irregular conjugation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84400" y="2971800"/>
            <a:ext cx="281124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51C-CDA9-41F0-8CFC-1CED9E88504E}" type="slidenum">
              <a:t>2</a:t>
            </a:fld>
          </a:p>
        </p:txBody>
      </p:sp>
    </p:spTree>
  </p:cSld>
  <p:transition spd="med">
    <p:pull dir="d"/>
    <p:sndAc>
      <p:stSnd>
        <p:snd r:embed="rId2" name="whoosh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5639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el orige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identificació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característica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hora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un evento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possession, material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1C3-95C0-47DD-89BE-43CEBA4BF39F}" type="slidenum">
              <a:t>20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2872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localizació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condicione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opinione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102C-BCD8-491B-9AE9-615935E16CF9}" type="slidenum">
              <a:t>21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267080" y="5791320"/>
            <a:ext cx="99072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5105520"/>
            <a:ext cx="83808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4038480" y="4419720"/>
            <a:ext cx="609840" cy="53316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3733920"/>
            <a:ext cx="83844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1981080" y="3048120"/>
            <a:ext cx="83844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2362320"/>
            <a:ext cx="609480" cy="53316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Comic Sans MS"/>
              </a:rPr>
              <a:t>¡Practicamos!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877320" y="2362320"/>
            <a:ext cx="74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Mi amigo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de la República Dominicana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2094120" y="3078000"/>
            <a:ext cx="51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on   /   Están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las diez de la noche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1132560" y="3763800"/>
            <a:ext cx="70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Los libros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on   /   están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de la profesora nueva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978840" y="4449600"/>
            <a:ext cx="73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El partido de béisbol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a las cuatro hoy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5135400"/>
            <a:ext cx="71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¿Quiénes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on   /   están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los estudiantes nuevos?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1951200" y="5821200"/>
            <a:ext cx="53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Hoy yo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oy   /   estoy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muy nervioso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371-FE0C-4F13-A5C4-83CCFF1000B6}" type="slidenum">
              <a:t>22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5334120" y="5791320"/>
            <a:ext cx="99036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5105520"/>
            <a:ext cx="83808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3886200" y="4419720"/>
            <a:ext cx="609480" cy="53316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5181480" y="3733920"/>
            <a:ext cx="91440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3048120"/>
            <a:ext cx="129528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2362320"/>
            <a:ext cx="685800" cy="53316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Comic Sans MS"/>
              </a:rPr>
              <a:t>¡Practicamos más!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1571400" y="236232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¿Dónde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el concierto de rock?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1081440" y="3078000"/>
            <a:ext cx="71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Carmen y yo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omos   /   estamos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muy cansados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1647360" y="3763800"/>
            <a:ext cx="60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Los profesores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on   /   están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apurados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1103760" y="4449600"/>
            <a:ext cx="70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El libro de historia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muy interesante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1156320" y="5135400"/>
            <a:ext cx="70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Mi bisabuela no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muy contenta hoy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1638000" y="5821200"/>
            <a:ext cx="60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Mi madre siempre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ocupada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512-56BC-41DC-BCED-94FFC1BC5CA8}" type="slidenum">
              <a:t>23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743200" y="5791320"/>
            <a:ext cx="76212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3733920" y="5105520"/>
            <a:ext cx="60948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4419720" y="4419720"/>
            <a:ext cx="761760" cy="53316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2895480" y="3733920"/>
            <a:ext cx="60984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4114800" y="3048120"/>
            <a:ext cx="83808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3657600" y="2362320"/>
            <a:ext cx="609480" cy="53316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Comic Sans MS"/>
              </a:rPr>
              <a:t>¡Y más!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2108520" y="2362320"/>
            <a:ext cx="50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¿De quién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el camión?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1721520" y="3078000"/>
            <a:ext cx="58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El teatro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cerca de la tienda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1632240" y="376380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Mañana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domingo, ¿verdad?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1822320" y="4449600"/>
            <a:ext cx="56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Margarita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muy triste hoy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1668240" y="513540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La casa nueva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de los García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1228680" y="582120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Juan y tú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ois   /   estáis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amigos buenos, ¿no?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1AC-37CA-47F4-9D6E-D11D9EADDB04}" type="slidenum">
              <a:t>24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0080" y="1025640"/>
            <a:ext cx="900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f8f8f8"/>
                </a:solidFill>
                <a:latin typeface="Comic Sans MS"/>
              </a:rPr>
              <a:t>How you feel and where you are </a:t>
            </a:r>
            <a:endParaRPr b="0" lang="en-US" sz="4400" spc="-1" strike="noStrike">
              <a:solidFill>
                <a:srgbClr val="f8f8f8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Comic Sans MS"/>
              </a:rPr>
              <a:t>always take the verb ESTAR.”</a:t>
            </a:r>
            <a:endParaRPr b="0" lang="en-US" sz="4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DFCE-43E4-4367-AC9B-B15A243DC9DC}" type="slidenum">
              <a:t>25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¿Cuáles son las formas?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y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r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i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96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oy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a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i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2121120" y="236232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5767920" y="2362320"/>
            <a:ext cx="141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5A44-101C-4C7E-A512-878F9846651F}" type="slidenum">
              <a:t>3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Comic Sans MS"/>
              </a:rPr>
              <a:t>En el Pretérito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          </a:t>
            </a:r>
            <a:r>
              <a:rPr b="1" lang="en-US" sz="40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Fui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Fuiste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Fue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Fuimos 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Fuistei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Fuero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1" lang="es-ES_tradnl" sz="40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Comic Sans MS"/>
              </a:rPr>
              <a:t>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uve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uviste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uv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uvi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uvisteis 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uviero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674-439D-4506-82F7-818C11BFF98F}" type="slidenum">
              <a:t>4</a:t>
            </a:fld>
          </a:p>
        </p:txBody>
      </p:sp>
    </p:spTree>
  </p:cSld>
  <p:transition spd="med">
    <p:comb dir="vert"/>
    <p:sndAc>
      <p:stSnd>
        <p:snd r:embed="rId1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Comic Sans MS"/>
              </a:rPr>
              <a:t>En el Imperfecto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1" lang="es-ES_tradnl" sz="40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ra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ra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ra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Éra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rai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ra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       </a:t>
            </a:r>
            <a:r>
              <a:rPr b="1" lang="es-ES_tradnl" sz="40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aba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aba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aba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ába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abais 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aba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7B9E-FAFE-4FC5-85C2-67CCD584BACA}" type="slidenum">
              <a:t>5</a:t>
            </a:fld>
          </a:p>
        </p:txBody>
      </p:sp>
    </p:spTree>
  </p:cSld>
  <p:transition spd="med">
    <p:checker dir="horz"/>
    <p:sndAc>
      <p:stSnd>
        <p:snd r:embed="rId1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Origin of a person or thing (</a:t>
            </a: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el origen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Identification (</a:t>
            </a: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la identificación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Characteristics (</a:t>
            </a: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las características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Telling time (</a:t>
            </a: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la hora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) and date (</a:t>
            </a: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la fecha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Time and place of an event (</a:t>
            </a: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un evento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With the preposition “de” (</a:t>
            </a: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possession, material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DB99-878C-4199-9336-51C412F8B42D}" type="slidenum">
              <a:t>6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1360" y="838080"/>
            <a:ext cx="613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Comic Sans MS"/>
              </a:rPr>
              <a:t>Algunos Adjetivos con SER: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1379880" y="258768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nuev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254200" y="220680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roj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2600640" y="4645080"/>
            <a:ext cx="14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popular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3524400" y="3044880"/>
            <a:ext cx="182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fantástic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6323760" y="4645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divertid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465480" y="4187880"/>
            <a:ext cx="12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buen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6281280" y="5940360"/>
            <a:ext cx="16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cariños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5945760" y="3425760"/>
            <a:ext cx="11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verde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014920" y="6016680"/>
            <a:ext cx="17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simpátic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4482000" y="525456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alt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2818440" y="1596960"/>
            <a:ext cx="35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(unas características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59C-C2D6-44E4-8D2B-A411E233B182}" type="slidenum">
              <a:t>7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500"/>
                            </p:stCondLst>
                            <p:childTnLst>
                              <p:par>
                                <p:cTn id="15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El Orige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Juan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Españ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Guatemal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is prim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Buenos Air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73480" y="4802040"/>
            <a:ext cx="2595600" cy="205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1DA-5C0E-4AAD-9DED-74E35A6DF993}" type="slidenum">
              <a:t>8</a:t>
            </a:fld>
          </a:p>
        </p:txBody>
      </p:sp>
    </p:spTree>
  </p:cSld>
  <p:transition spd="med">
    <p:pull dir="d"/>
    <p:sndAc>
      <p:stSnd>
        <p:snd r:embed="rId2" name="whoosh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Identificació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ú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r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a hermana de Pedr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Nosotr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mo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mericano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Sr. Ayal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profesor de español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652920" y="4572000"/>
            <a:ext cx="183816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6D6E-2AED-4CE3-BFCB-4ACAA15BAD88}" type="slidenum">
              <a:t>9</a:t>
            </a:fld>
          </a:p>
        </p:txBody>
      </p:sp>
    </p:spTree>
  </p:cSld>
  <p:transition spd="med">
    <p:pull dir="d"/>
    <p:sndAc>
      <p:stSnd>
        <p:snd r:embed="rId2" name="whoosh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olseng</dc:creator>
  <dc:description/>
  <dc:language>en-US</dc:language>
  <cp:lastModifiedBy>technician</cp:lastModifiedBy>
  <dcterms:modified xsi:type="dcterms:W3CDTF">2011-01-07T19:00:58Z</dcterms:modified>
  <cp:revision>84</cp:revision>
  <dc:subject/>
  <dc:title>Ser &amp; Estar</dc:title>
</cp:coreProperties>
</file>